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3E02-08DD-458D-ACB2-8D7D4E041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180-A277-4A9D-9F32-A93F479E7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398-2A1E-4323-9571-E3D8AC37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2C7-C3C4-48B9-ACBE-B8EBCA5B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4F4-2826-498A-B942-E1F0FFFB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F94-555C-4E95-89E0-0CCAF3FE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CD2D-AC3A-43F9-8F4E-88C314F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166E-F1ED-4DBA-9A47-B8FDB806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0C3F-DE84-4866-8256-08114411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22D-7FEB-4004-A66D-77B7CBF8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E85-6C23-4190-AA22-8D0D5A1B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DB95-8524-4AA0-8410-DB422A53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A66C-689F-4987-8A07-D1A46EC0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FFA-7783-4E0C-A4DB-5D586D3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8C95-CF8B-4FE0-8E35-9738446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BC86-03F4-4DF5-B5BB-C11F75F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300-A002-4B66-9C17-4328F596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BBD2-FF69-4E51-BFC6-83AA91F8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F3F-77FC-4550-8170-02982A45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229C-47A8-4EFC-8EF4-C1F5643A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4DD2A-E293-4818-AFBB-3F3816C1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9E56-6DF1-4912-9838-0F96708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27E4-00A0-489E-B0D0-FE656AFE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1DD1-FE69-4DEE-8A14-B8F76E31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305-6980-4ED8-89D1-63B74D9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97C3-C1CB-47E4-90AA-0685F77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B7D7-5D01-4835-8DD8-C2D0FFF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8F80-EB41-419B-92AC-57F3CBC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E7A5-E643-4B78-8568-0A89179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5460-74B0-4096-89BC-CC940C1E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CB99-D6DC-408C-9FB3-A330F92E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59EF-1961-46C6-9F0B-B995A1FF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75EF-1D89-4C00-8C3B-2E68F3F0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0805-E87C-49D6-9F52-C69DD17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A628-7E07-4A99-90EA-DEF3EB42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2BF-8E08-4F62-9B6D-816BCBA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F9D1-158C-43D8-B82A-59D0C10F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6BDF-3B92-4271-AB86-9632ABA5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F9F5-5F91-4122-B697-639AAD94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17279-ED45-49EC-8592-44E859F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CF4E-ED1D-4A99-8B35-92C8349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28BBF-6DD0-44EC-9D65-D6BAEF7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169D-E022-4F49-8C17-1D1319D4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33E2-9397-4FD3-AE04-C850F7F0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DF56-87D8-497A-AD97-45EA332F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51DB-0F53-494E-AB28-5F89312A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2F1-A259-489F-B1EA-A4365AF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FED8-C002-443D-957D-FA1F8948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781E-2F09-4DD6-BC90-1628FAB2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6987-C6C7-49F1-BE84-38068EF7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F8D5-3BA3-4E0B-96EC-7522524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8819-36C1-42CE-B0A3-48FC521F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32802-722D-4A44-9425-67FAE5B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BB79-8686-4FE4-996D-F5705E83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824D-D407-4B37-B53F-CF5CD81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F021A-0168-4B5F-B4F0-20B58F4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772F0-E4E2-40F1-A130-5B63625A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837-C9EB-49D5-B72D-6C6BDD18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563B-449B-4943-A22E-209480C6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97DA-0C5C-452F-BF02-96E215F1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9272-69AD-4DD7-B5DE-68EABEE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B464-082F-4E64-8E94-89EAFB1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B13D-3994-4C8F-B80B-672BECA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76666-C1A1-4E57-8225-F447BF1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8E06-563B-4F92-B8D4-00981C96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E12A-4979-432F-8561-76766F3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A8ED-A33D-48C5-BEF6-410B6F28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8533-5753-4433-8B72-E2A48C9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516-6602-49E0-9FE6-F628D8D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A38E-6E95-4838-88F1-557DA64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6D3A-6C94-4496-B4BF-61F43CAB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ED4E8-7B18-405D-B6DF-1B9DA00D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14024-A0CB-4B83-996F-35B6058B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A5815-7F87-4963-B21B-AD4B047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1EC0-FAD9-4CC0-8075-06A1F42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2F12-ED56-4B41-B963-F219EEA3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0B6B-1BCE-4B7D-8031-43E6FEFF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CADF-70B2-4671-B637-FB9C61E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6107-9699-4655-ADAD-FC344BA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0FB-1DA0-4D44-BEDA-0DD4B92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985F-7453-4ECF-ACE8-B6972189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31A21-D07B-40F0-8701-541AC3A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3B2F-5BE3-4D48-87FE-021A186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AEECD-C709-4866-8E8E-71132D92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5CCF5-7751-4506-B845-D870E9BB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87E-6333-4EB8-814E-2035AED3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3716-BBF9-4D6D-B9FC-243531E074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5180-0A44-419D-8F99-9D8BC8C8FE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F833-60FE-4578-854D-4B19D6ACE8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DE2F-364B-4587-A3BF-1F320168EEE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0DB-540F-4E09-B926-42F0E86564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38B-9350-459A-9647-3AACFB4B628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466-BDCD-4AC9-BDA6-EAC42E5FDD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5242-e921-11dc-95ff-0800200c9a66/3_17.swf" TargetMode="External"/><Relationship Id="rId2" Type="http://schemas.openxmlformats.org/officeDocument/2006/relationships/hyperlink" Target="http://class-fizika.narod.ru/tren6.htm" TargetMode="External"/><Relationship Id="rId3" Type="http://schemas.openxmlformats.org/officeDocument/2006/relationships/hyperlink" Target="http://class-fizika.narod.ru/tren8.htm" TargetMode="External"/><Relationship Id="rId4" Type="http://schemas.openxmlformats.org/officeDocument/2006/relationships/hyperlink" Target="http://files.school-collection.edu.ru/dlrstore/aedc7284-3436-4b6c-817c-50404bd1f0b9/7_104.swf" TargetMode="External"/><Relationship Id="rId5" Type="http://schemas.openxmlformats.org/officeDocument/2006/relationships/hyperlink" Target="http://class-fizika.narod.ru/tren3.htm" TargetMode="Externa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hyperlink" Target="http://files.school-collection.edu.ru/dlrstore/669b0453-e921-11dc-95ff-0800200c9a66/index_listing.html" TargetMode="External"/><Relationship Id="rId10" Type="http://schemas.openxmlformats.org/officeDocument/2006/relationships/hyperlink" Target="http://files.school-collection.edu.ru/dlrstore/0fc99d2f-c58e-48f2-97ce-21a9cadf79fb/7_101.swf" TargetMode="External"/><Relationship Id="rId11" Type="http://schemas.openxmlformats.org/officeDocument/2006/relationships/hyperlink" Target="http://files.school-collection.edu.ru/dlrstore/55685a98-c992-46d3-89c9-6619b0d3a9a8/7_103.swf" TargetMode="External"/><Relationship Id="rId12" Type="http://schemas.openxmlformats.org/officeDocument/2006/relationships/hyperlink" Target="http://www.moi-mummi.ru/" TargetMode="External"/><Relationship Id="rId13" Type="http://schemas.openxmlformats.org/officeDocument/2006/relationships/hyperlink" Target="http://www.moi-mummi.ru/" TargetMode="External"/><Relationship Id="rId14" Type="http://schemas.openxmlformats.org/officeDocument/2006/relationships/hyperlink" Target="http://www.moi-mummi.ru/" TargetMode="External"/><Relationship Id="rId15" Type="http://schemas.openxmlformats.org/officeDocument/2006/relationships/hyperlink" Target="http://www.moi-mummi.ru/" TargetMode="External"/><Relationship Id="rId16" Type="http://schemas.openxmlformats.org/officeDocument/2006/relationships/hyperlink" Target="http://www.moi-mummi.ru/" TargetMode="External"/><Relationship Id="rId17" Type="http://schemas.openxmlformats.org/officeDocument/2006/relationships/hyperlink" Target="http://www.moi-mummi.ru/" TargetMode="External"/><Relationship Id="rId18" Type="http://schemas.openxmlformats.org/officeDocument/2006/relationships/hyperlink" Target="http://www.moi-mummi.ru/" TargetMode="External"/><Relationship Id="rId19" Type="http://schemas.openxmlformats.org/officeDocument/2006/relationships/slideLayout" Target="../slideLayouts/slideLayout49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moi-mummi.ru/" TargetMode="External"/><Relationship Id="rId5" Type="http://schemas.openxmlformats.org/officeDocument/2006/relationships/hyperlink" Target="http://www.moi-mummi.ru/" TargetMode="External"/><Relationship Id="rId6" Type="http://schemas.openxmlformats.org/officeDocument/2006/relationships/hyperlink" Target="http://www.moi-mummi.ru/" TargetMode="External"/><Relationship Id="rId7" Type="http://schemas.openxmlformats.org/officeDocument/2006/relationships/hyperlink" Target="http://www.moi-mummi.ru/" TargetMode="External"/><Relationship Id="rId8" Type="http://schemas.openxmlformats.org/officeDocument/2006/relationships/hyperlink" Target="http://www.moi-mummi.ru/" TargetMode="External"/><Relationship Id="rId9" Type="http://schemas.openxmlformats.org/officeDocument/2006/relationships/hyperlink" Target="http://www.moi-mummi.ru/" TargetMode="External"/><Relationship Id="rId10" Type="http://schemas.openxmlformats.org/officeDocument/2006/relationships/hyperlink" Target="http://www.moi-mummi.ru/" TargetMode="External"/><Relationship Id="rId1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5241-e921-11dc-95ff-0800200c9a66/3_16.swf" TargetMode="External"/><Relationship Id="rId2" Type="http://schemas.openxmlformats.org/officeDocument/2006/relationships/hyperlink" Target="http://www.moi-mummi.ru/" TargetMode="External"/><Relationship Id="rId3" Type="http://schemas.openxmlformats.org/officeDocument/2006/relationships/hyperlink" Target="http://www.moi-mummi.ru/" TargetMode="External"/><Relationship Id="rId4" Type="http://schemas.openxmlformats.org/officeDocument/2006/relationships/hyperlink" Target="http://www.moi-mummi.ru/" TargetMode="External"/><Relationship Id="rId5" Type="http://schemas.openxmlformats.org/officeDocument/2006/relationships/hyperlink" Target="http://www.moi-mummi.ru/" TargetMode="External"/><Relationship Id="rId6" Type="http://schemas.openxmlformats.org/officeDocument/2006/relationships/hyperlink" Target="http://www.moi-mummi.ru/" TargetMode="External"/><Relationship Id="rId7" Type="http://schemas.openxmlformats.org/officeDocument/2006/relationships/hyperlink" Target="http://www.moi-mummi.ru/" TargetMode="External"/><Relationship Id="rId8" Type="http://schemas.openxmlformats.org/officeDocument/2006/relationships/hyperlink" Target="http://www.moi-mummi.ru/" TargetMode="External"/><Relationship Id="rId9" Type="http://schemas.openxmlformats.org/officeDocument/2006/relationships/slide" Target="slide1.xml"/><Relationship Id="rId10" Type="http://schemas.openxmlformats.org/officeDocument/2006/relationships/hyperlink" Target="http://files.school-collection.edu.ru/dlrstore/669b2b5e-e921-11dc-95ff-0800200c9a66/3_10.swf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2b5e-e921-11dc-95ff-0800200c9a66/3_10.swf" TargetMode="External"/><Relationship Id="rId2" Type="http://schemas.openxmlformats.org/officeDocument/2006/relationships/hyperlink" Target="http://files.school-collection.edu.ru/dlrstore/669b5241-e921-11dc-95ff-0800200c9a66/3_16.swf" TargetMode="External"/><Relationship Id="rId3" Type="http://schemas.openxmlformats.org/officeDocument/2006/relationships/hyperlink" Target="http://files.school-collection.edu.ru/dlrstore/669b5242-e921-11dc-95ff-0800200c9a66/3_17.swf" TargetMode="External"/><Relationship Id="rId4" Type="http://schemas.openxmlformats.org/officeDocument/2006/relationships/hyperlink" Target="http://class-fizika.narod.ru/tren3.htm" TargetMode="External"/><Relationship Id="rId5" Type="http://schemas.openxmlformats.org/officeDocument/2006/relationships/hyperlink" Target="http://class-fizika.narod.ru/tren11.htm" TargetMode="External"/><Relationship Id="rId6" Type="http://schemas.openxmlformats.org/officeDocument/2006/relationships/hyperlink" Target="http://class-fizika.narod.ru/tren8.htm" TargetMode="External"/><Relationship Id="rId7" Type="http://schemas.openxmlformats.org/officeDocument/2006/relationships/hyperlink" Target="http://class-fizika.narod.ru/tren6.htm" TargetMode="External"/><Relationship Id="rId8" Type="http://schemas.openxmlformats.org/officeDocument/2006/relationships/hyperlink" Target="http://files.school-collection.edu.ru/dlrstore/669b0453-e921-11dc-95ff-0800200c9a66/index_listing.html" TargetMode="External"/><Relationship Id="rId9" Type="http://schemas.openxmlformats.org/officeDocument/2006/relationships/hyperlink" Target="http://files.school-collection.edu.ru/dlrstore/0fc99d2f-c58e-48f2-97ce-21a9cadf79fb/7_101.swf" TargetMode="External"/><Relationship Id="rId10" Type="http://schemas.openxmlformats.org/officeDocument/2006/relationships/hyperlink" Target="http://files.school-collection.edu.ru/dlrstore/55685a98-c992-46d3-89c9-6619b0d3a9a8/7_103.swf" TargetMode="External"/><Relationship Id="rId11" Type="http://schemas.openxmlformats.org/officeDocument/2006/relationships/hyperlink" Target="http://files.school-collection.edu.ru/dlrstore/aedc7284-3436-4b6c-817c-50404bd1f0b9/7_104.swf" TargetMode="External"/><Relationship Id="rId12" Type="http://schemas.openxmlformats.org/officeDocument/2006/relationships/hyperlink" Target="http://files.school-collection.edu.ru/dlrstore/2b716a7e-d097-45ac-87d3-3e4dd35b248a/7_105.swf" TargetMode="External"/><Relationship Id="rId13" Type="http://schemas.openxmlformats.org/officeDocument/2006/relationships/hyperlink" Target="http://files.school-collection.edu.ru/dlrstore/669b044e-e921-11dc-95ff-0800200c9a66/index_listing.html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8"/>
          <p:cNvSpPr/>
          <p:nvPr/>
        </p:nvSpPr>
        <p:spPr>
          <a:xfrm>
            <a:off x="2071800" y="1643040"/>
            <a:ext cx="5618160" cy="3810240"/>
          </a:xfrm>
          <a:prstGeom prst="rect">
            <a:avLst/>
          </a:prstGeom>
          <a:noFill/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4305"/>
                </a:solidFill>
                <a:latin typeface="Corbel"/>
              </a:rPr>
              <a:t>Интерактивная динамическая з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4305"/>
                </a:solidFill>
                <a:latin typeface="Corbel"/>
              </a:rPr>
              <a:t>основная рабоч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4305"/>
                </a:solidFill>
                <a:latin typeface="Corbel"/>
              </a:rPr>
              <a:t>интерактивной до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нипулирование, демонстрация, пояснения, собственные построения, импровизац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настраиваемая 9">
            <a:hlinkClick r:id="rId1"/>
          </p:cNvPr>
          <p:cNvSpPr/>
          <p:nvPr/>
        </p:nvSpPr>
        <p:spPr>
          <a:xfrm>
            <a:off x="0" y="5572080"/>
            <a:ext cx="2071800" cy="357120"/>
          </a:xfrm>
          <a:custGeom>
            <a:avLst/>
            <a:gdLst>
              <a:gd name="textAreaLeft" fmla="*/ 23040 w 2071800"/>
              <a:gd name="textAreaRight" fmla="*/ 2048760 w 2071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5206" h="21600">
                <a:moveTo>
                  <a:pt x="0" y="0"/>
                </a:moveTo>
                <a:lnTo>
                  <a:pt x="125206" y="0"/>
                </a:lnTo>
                <a:lnTo>
                  <a:pt x="125206" y="21600"/>
                </a:lnTo>
                <a:lnTo>
                  <a:pt x="0" y="21600"/>
                </a:lnTo>
                <a:close/>
              </a:path>
              <a:path fill="lightenLess" w="125206" h="21600">
                <a:moveTo>
                  <a:pt x="0" y="0"/>
                </a:moveTo>
                <a:lnTo>
                  <a:pt x="125206" y="0"/>
                </a:lnTo>
                <a:lnTo>
                  <a:pt x="123806" y="1400"/>
                </a:lnTo>
                <a:lnTo>
                  <a:pt x="1400" y="1400"/>
                </a:lnTo>
                <a:close/>
              </a:path>
              <a:path fill="darken" w="125206" h="21600">
                <a:moveTo>
                  <a:pt x="125206" y="0"/>
                </a:moveTo>
                <a:lnTo>
                  <a:pt x="125206" y="21600"/>
                </a:lnTo>
                <a:lnTo>
                  <a:pt x="123806" y="20200"/>
                </a:lnTo>
                <a:lnTo>
                  <a:pt x="123806" y="1400"/>
                </a:lnTo>
                <a:close/>
              </a:path>
              <a:path fill="darkenLess" w="125206" h="21600">
                <a:moveTo>
                  <a:pt x="1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06" y="20200"/>
                </a:lnTo>
                <a:close/>
              </a:path>
              <a:path fill="lighten" w="1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ила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Управляющая кнопка: настраиваемая 10">
            <a:hlinkClick r:id="rId2"/>
          </p:cNvPr>
          <p:cNvSpPr/>
          <p:nvPr/>
        </p:nvSpPr>
        <p:spPr>
          <a:xfrm>
            <a:off x="0" y="5143680"/>
            <a:ext cx="2071800" cy="357120"/>
          </a:xfrm>
          <a:custGeom>
            <a:avLst/>
            <a:gdLst>
              <a:gd name="textAreaLeft" fmla="*/ 23040 w 2071800"/>
              <a:gd name="textAreaRight" fmla="*/ 2048760 w 2071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5206" h="21600">
                <a:moveTo>
                  <a:pt x="0" y="0"/>
                </a:moveTo>
                <a:lnTo>
                  <a:pt x="125206" y="0"/>
                </a:lnTo>
                <a:lnTo>
                  <a:pt x="125206" y="21600"/>
                </a:lnTo>
                <a:lnTo>
                  <a:pt x="0" y="21600"/>
                </a:lnTo>
                <a:close/>
              </a:path>
              <a:path fill="lightenLess" w="125206" h="21600">
                <a:moveTo>
                  <a:pt x="0" y="0"/>
                </a:moveTo>
                <a:lnTo>
                  <a:pt x="125206" y="0"/>
                </a:lnTo>
                <a:lnTo>
                  <a:pt x="123806" y="1400"/>
                </a:lnTo>
                <a:lnTo>
                  <a:pt x="1400" y="1400"/>
                </a:lnTo>
                <a:close/>
              </a:path>
              <a:path fill="darken" w="125206" h="21600">
                <a:moveTo>
                  <a:pt x="125206" y="0"/>
                </a:moveTo>
                <a:lnTo>
                  <a:pt x="125206" y="21600"/>
                </a:lnTo>
                <a:lnTo>
                  <a:pt x="123806" y="20200"/>
                </a:lnTo>
                <a:lnTo>
                  <a:pt x="123806" y="1400"/>
                </a:lnTo>
                <a:close/>
              </a:path>
              <a:path fill="darkenLess" w="125206" h="21600">
                <a:moveTo>
                  <a:pt x="1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06" y="20200"/>
                </a:lnTo>
                <a:close/>
              </a:path>
              <a:path fill="lighten" w="1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ир без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Управляющая кнопка: настраиваемая 11">
            <a:hlinkClick r:id="rId3"/>
          </p:cNvPr>
          <p:cNvSpPr/>
          <p:nvPr/>
        </p:nvSpPr>
        <p:spPr>
          <a:xfrm>
            <a:off x="0" y="4714920"/>
            <a:ext cx="2071800" cy="357120"/>
          </a:xfrm>
          <a:custGeom>
            <a:avLst/>
            <a:gdLst>
              <a:gd name="textAreaLeft" fmla="*/ 23040 w 2071800"/>
              <a:gd name="textAreaRight" fmla="*/ 2048760 w 2071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5206" h="21600">
                <a:moveTo>
                  <a:pt x="0" y="0"/>
                </a:moveTo>
                <a:lnTo>
                  <a:pt x="125206" y="0"/>
                </a:lnTo>
                <a:lnTo>
                  <a:pt x="125206" y="21600"/>
                </a:lnTo>
                <a:lnTo>
                  <a:pt x="0" y="21600"/>
                </a:lnTo>
                <a:close/>
              </a:path>
              <a:path fill="lightenLess" w="125206" h="21600">
                <a:moveTo>
                  <a:pt x="0" y="0"/>
                </a:moveTo>
                <a:lnTo>
                  <a:pt x="125206" y="0"/>
                </a:lnTo>
                <a:lnTo>
                  <a:pt x="123806" y="1400"/>
                </a:lnTo>
                <a:lnTo>
                  <a:pt x="1400" y="1400"/>
                </a:lnTo>
                <a:close/>
              </a:path>
              <a:path fill="darken" w="125206" h="21600">
                <a:moveTo>
                  <a:pt x="125206" y="0"/>
                </a:moveTo>
                <a:lnTo>
                  <a:pt x="125206" y="21600"/>
                </a:lnTo>
                <a:lnTo>
                  <a:pt x="123806" y="20200"/>
                </a:lnTo>
                <a:lnTo>
                  <a:pt x="123806" y="1400"/>
                </a:lnTo>
                <a:close/>
              </a:path>
              <a:path fill="darkenLess" w="125206" h="21600">
                <a:moveTo>
                  <a:pt x="1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06" y="20200"/>
                </a:lnTo>
                <a:close/>
              </a:path>
              <a:path fill="lighten" w="1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ние в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Управляющая кнопка: настраиваемая 12">
            <a:hlinkClick r:id="rId4"/>
          </p:cNvPr>
          <p:cNvSpPr/>
          <p:nvPr/>
        </p:nvSpPr>
        <p:spPr>
          <a:xfrm>
            <a:off x="0" y="4286160"/>
            <a:ext cx="2071800" cy="357120"/>
          </a:xfrm>
          <a:custGeom>
            <a:avLst/>
            <a:gdLst>
              <a:gd name="textAreaLeft" fmla="*/ 23040 w 2071800"/>
              <a:gd name="textAreaRight" fmla="*/ 2048760 w 2071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5206" h="21600">
                <a:moveTo>
                  <a:pt x="0" y="0"/>
                </a:moveTo>
                <a:lnTo>
                  <a:pt x="125206" y="0"/>
                </a:lnTo>
                <a:lnTo>
                  <a:pt x="125206" y="21600"/>
                </a:lnTo>
                <a:lnTo>
                  <a:pt x="0" y="21600"/>
                </a:lnTo>
                <a:close/>
              </a:path>
              <a:path fill="lightenLess" w="125206" h="21600">
                <a:moveTo>
                  <a:pt x="0" y="0"/>
                </a:moveTo>
                <a:lnTo>
                  <a:pt x="125206" y="0"/>
                </a:lnTo>
                <a:lnTo>
                  <a:pt x="123806" y="1400"/>
                </a:lnTo>
                <a:lnTo>
                  <a:pt x="1400" y="1400"/>
                </a:lnTo>
                <a:close/>
              </a:path>
              <a:path fill="darken" w="125206" h="21600">
                <a:moveTo>
                  <a:pt x="125206" y="0"/>
                </a:moveTo>
                <a:lnTo>
                  <a:pt x="125206" y="21600"/>
                </a:lnTo>
                <a:lnTo>
                  <a:pt x="123806" y="20200"/>
                </a:lnTo>
                <a:lnTo>
                  <a:pt x="123806" y="1400"/>
                </a:lnTo>
                <a:close/>
              </a:path>
              <a:path fill="darkenLess" w="125206" h="21600">
                <a:moveTo>
                  <a:pt x="1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06" y="20200"/>
                </a:lnTo>
                <a:close/>
              </a:path>
              <a:path fill="lighten" w="1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Трение в природе и тех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правляющая кнопка: настраиваемая 13">
            <a:hlinkClick r:id="rId5"/>
          </p:cNvPr>
          <p:cNvSpPr/>
          <p:nvPr/>
        </p:nvSpPr>
        <p:spPr>
          <a:xfrm>
            <a:off x="0" y="3857760"/>
            <a:ext cx="2071800" cy="357120"/>
          </a:xfrm>
          <a:custGeom>
            <a:avLst/>
            <a:gdLst>
              <a:gd name="textAreaLeft" fmla="*/ 23040 w 2071800"/>
              <a:gd name="textAreaRight" fmla="*/ 2048760 w 2071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5206" h="21600">
                <a:moveTo>
                  <a:pt x="0" y="0"/>
                </a:moveTo>
                <a:lnTo>
                  <a:pt x="125206" y="0"/>
                </a:lnTo>
                <a:lnTo>
                  <a:pt x="125206" y="21600"/>
                </a:lnTo>
                <a:lnTo>
                  <a:pt x="0" y="21600"/>
                </a:lnTo>
                <a:close/>
              </a:path>
              <a:path fill="lightenLess" w="125206" h="21600">
                <a:moveTo>
                  <a:pt x="0" y="0"/>
                </a:moveTo>
                <a:lnTo>
                  <a:pt x="125206" y="0"/>
                </a:lnTo>
                <a:lnTo>
                  <a:pt x="123806" y="1400"/>
                </a:lnTo>
                <a:lnTo>
                  <a:pt x="1400" y="1400"/>
                </a:lnTo>
                <a:close/>
              </a:path>
              <a:path fill="darken" w="125206" h="21600">
                <a:moveTo>
                  <a:pt x="125206" y="0"/>
                </a:moveTo>
                <a:lnTo>
                  <a:pt x="125206" y="21600"/>
                </a:lnTo>
                <a:lnTo>
                  <a:pt x="123806" y="20200"/>
                </a:lnTo>
                <a:lnTo>
                  <a:pt x="123806" y="1400"/>
                </a:lnTo>
                <a:close/>
              </a:path>
              <a:path fill="darkenLess" w="125206" h="21600">
                <a:moveTo>
                  <a:pt x="1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06" y="20200"/>
                </a:lnTo>
                <a:close/>
              </a:path>
              <a:path fill="lighten" w="1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ние пок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6"/>
          <a:srcRect l="87403" t="8130" r="2694" b="8538"/>
          <a:stretch/>
        </p:blipFill>
        <p:spPr>
          <a:xfrm>
            <a:off x="8339040" y="857160"/>
            <a:ext cx="804960" cy="507204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7"/>
          <p:cNvSpPr/>
          <p:nvPr/>
        </p:nvSpPr>
        <p:spPr>
          <a:xfrm>
            <a:off x="928800" y="285840"/>
            <a:ext cx="7858080" cy="4284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 урока: Силы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правляющая кнопка: настраиваемая 18">
            <a:hlinkClick r:id="rId7" action="ppaction://hlinksldjump"/>
          </p:cNvPr>
          <p:cNvSpPr/>
          <p:nvPr/>
        </p:nvSpPr>
        <p:spPr>
          <a:xfrm>
            <a:off x="0" y="6000840"/>
            <a:ext cx="2071800" cy="357120"/>
          </a:xfrm>
          <a:custGeom>
            <a:avLst/>
            <a:gdLst>
              <a:gd name="textAreaLeft" fmla="*/ 23040 w 2071800"/>
              <a:gd name="textAreaRight" fmla="*/ 2048760 w 2071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5206" h="21600">
                <a:moveTo>
                  <a:pt x="0" y="0"/>
                </a:moveTo>
                <a:lnTo>
                  <a:pt x="125206" y="0"/>
                </a:lnTo>
                <a:lnTo>
                  <a:pt x="125206" y="21600"/>
                </a:lnTo>
                <a:lnTo>
                  <a:pt x="0" y="21600"/>
                </a:lnTo>
                <a:close/>
              </a:path>
              <a:path fill="lightenLess" w="125206" h="21600">
                <a:moveTo>
                  <a:pt x="0" y="0"/>
                </a:moveTo>
                <a:lnTo>
                  <a:pt x="125206" y="0"/>
                </a:lnTo>
                <a:lnTo>
                  <a:pt x="123806" y="1400"/>
                </a:lnTo>
                <a:lnTo>
                  <a:pt x="1400" y="1400"/>
                </a:lnTo>
                <a:close/>
              </a:path>
              <a:path fill="darken" w="125206" h="21600">
                <a:moveTo>
                  <a:pt x="125206" y="0"/>
                </a:moveTo>
                <a:lnTo>
                  <a:pt x="125206" y="21600"/>
                </a:lnTo>
                <a:lnTo>
                  <a:pt x="123806" y="20200"/>
                </a:lnTo>
                <a:lnTo>
                  <a:pt x="123806" y="1400"/>
                </a:lnTo>
                <a:close/>
              </a:path>
              <a:path fill="darkenLess" w="125206" h="21600">
                <a:moveTo>
                  <a:pt x="1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806" y="20200"/>
                </a:lnTo>
                <a:close/>
              </a:path>
              <a:path fill="lighten" w="1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опро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9"/>
          <p:cNvSpPr/>
          <p:nvPr/>
        </p:nvSpPr>
        <p:spPr>
          <a:xfrm>
            <a:off x="0" y="0"/>
            <a:ext cx="1785960" cy="1000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Но  трение есть, есть, есть! И в этом наше счастье и бед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правляющая кнопка: настраиваемая 22">
            <a:hlinkClick r:id="rId8" action="ppaction://hlinksldjump"/>
          </p:cNvPr>
          <p:cNvSpPr/>
          <p:nvPr/>
        </p:nvSpPr>
        <p:spPr>
          <a:xfrm>
            <a:off x="0" y="3500280"/>
            <a:ext cx="2071800" cy="285840"/>
          </a:xfrm>
          <a:custGeom>
            <a:avLst/>
            <a:gdLst>
              <a:gd name="textAreaLeft" fmla="*/ 18360 w 2071800"/>
              <a:gd name="textAreaRight" fmla="*/ 2053440 w 20718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56389" h="21600">
                <a:moveTo>
                  <a:pt x="0" y="0"/>
                </a:moveTo>
                <a:lnTo>
                  <a:pt x="156389" y="0"/>
                </a:lnTo>
                <a:lnTo>
                  <a:pt x="156389" y="21600"/>
                </a:lnTo>
                <a:lnTo>
                  <a:pt x="0" y="21600"/>
                </a:lnTo>
                <a:close/>
              </a:path>
              <a:path fill="lightenLess" w="156389" h="21600">
                <a:moveTo>
                  <a:pt x="0" y="0"/>
                </a:moveTo>
                <a:lnTo>
                  <a:pt x="156389" y="0"/>
                </a:lnTo>
                <a:lnTo>
                  <a:pt x="154989" y="1400"/>
                </a:lnTo>
                <a:lnTo>
                  <a:pt x="1400" y="1400"/>
                </a:lnTo>
                <a:close/>
              </a:path>
              <a:path fill="darken" w="156389" h="21600">
                <a:moveTo>
                  <a:pt x="156389" y="0"/>
                </a:moveTo>
                <a:lnTo>
                  <a:pt x="156389" y="21600"/>
                </a:lnTo>
                <a:lnTo>
                  <a:pt x="154989" y="20200"/>
                </a:lnTo>
                <a:lnTo>
                  <a:pt x="154989" y="1400"/>
                </a:lnTo>
                <a:close/>
              </a:path>
              <a:path fill="darkenLess" w="156389" h="21600">
                <a:moveTo>
                  <a:pt x="156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89" y="20200"/>
                </a:lnTo>
                <a:close/>
              </a:path>
              <a:path fill="lighten" w="156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3"/>
          <p:cNvSpPr/>
          <p:nvPr/>
        </p:nvSpPr>
        <p:spPr>
          <a:xfrm>
            <a:off x="0" y="1071720"/>
            <a:ext cx="2143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4305"/>
                </a:solidFill>
                <a:latin typeface="Corbel"/>
              </a:rPr>
              <a:t>Мы узна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4305"/>
                </a:solidFill>
                <a:latin typeface="Corbel"/>
              </a:rPr>
              <a:t>Что такое сила т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4305"/>
                </a:solidFill>
                <a:latin typeface="Corbel"/>
              </a:rPr>
              <a:t>Каковы причины возникновения силы т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4305"/>
                </a:solidFill>
                <a:latin typeface="Corbel"/>
              </a:rPr>
              <a:t>Как можно уменьшить силу т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4305"/>
                </a:solidFill>
                <a:latin typeface="Corbel"/>
              </a:rPr>
              <a:t>Какие виды трения суще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4305"/>
                </a:solidFill>
                <a:latin typeface="Corbel"/>
              </a:rPr>
              <a:t>Какова роль трения в природе и тех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правляющая кнопка: настраиваемая 24">
            <a:hlinkClick r:id="rId9"/>
          </p:cNvPr>
          <p:cNvSpPr/>
          <p:nvPr/>
        </p:nvSpPr>
        <p:spPr>
          <a:xfrm>
            <a:off x="0" y="6500880"/>
            <a:ext cx="2143080" cy="357120"/>
          </a:xfrm>
          <a:custGeom>
            <a:avLst/>
            <a:gdLst>
              <a:gd name="textAreaLeft" fmla="*/ 23040 w 2143080"/>
              <a:gd name="textAreaRight" fmla="*/ 2120040 w 2143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9513" h="21600">
                <a:moveTo>
                  <a:pt x="0" y="0"/>
                </a:moveTo>
                <a:lnTo>
                  <a:pt x="129513" y="0"/>
                </a:lnTo>
                <a:lnTo>
                  <a:pt x="129513" y="21600"/>
                </a:lnTo>
                <a:lnTo>
                  <a:pt x="0" y="21600"/>
                </a:lnTo>
                <a:close/>
              </a:path>
              <a:path fill="lightenLess" w="129513" h="21600">
                <a:moveTo>
                  <a:pt x="0" y="0"/>
                </a:moveTo>
                <a:lnTo>
                  <a:pt x="129513" y="0"/>
                </a:lnTo>
                <a:lnTo>
                  <a:pt x="128113" y="1400"/>
                </a:lnTo>
                <a:lnTo>
                  <a:pt x="1400" y="1400"/>
                </a:lnTo>
                <a:close/>
              </a:path>
              <a:path fill="darken" w="129513" h="21600">
                <a:moveTo>
                  <a:pt x="129513" y="0"/>
                </a:moveTo>
                <a:lnTo>
                  <a:pt x="129513" y="21600"/>
                </a:lnTo>
                <a:lnTo>
                  <a:pt x="128113" y="20200"/>
                </a:lnTo>
                <a:lnTo>
                  <a:pt x="128113" y="1400"/>
                </a:lnTo>
                <a:close/>
              </a:path>
              <a:path fill="darkenLess" w="129513" h="21600">
                <a:moveTo>
                  <a:pt x="12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3" y="20200"/>
                </a:lnTo>
                <a:close/>
              </a:path>
              <a:path fill="lighten" w="12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Закрепление изуч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правляющая кнопка: настраиваемая 25">
            <a:hlinkClick r:id="rId10"/>
          </p:cNvPr>
          <p:cNvSpPr/>
          <p:nvPr/>
        </p:nvSpPr>
        <p:spPr>
          <a:xfrm>
            <a:off x="2286000" y="6500880"/>
            <a:ext cx="1643040" cy="357120"/>
          </a:xfrm>
          <a:custGeom>
            <a:avLst/>
            <a:gdLst>
              <a:gd name="textAreaLeft" fmla="*/ 23040 w 1643040"/>
              <a:gd name="textAreaRight" fmla="*/ 1620000 w 1643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99299" h="21600">
                <a:moveTo>
                  <a:pt x="0" y="0"/>
                </a:moveTo>
                <a:lnTo>
                  <a:pt x="99299" y="0"/>
                </a:lnTo>
                <a:lnTo>
                  <a:pt x="99299" y="21600"/>
                </a:lnTo>
                <a:lnTo>
                  <a:pt x="0" y="21600"/>
                </a:lnTo>
                <a:close/>
              </a:path>
              <a:path fill="lightenLess" w="99299" h="21600">
                <a:moveTo>
                  <a:pt x="0" y="0"/>
                </a:moveTo>
                <a:lnTo>
                  <a:pt x="99299" y="0"/>
                </a:lnTo>
                <a:lnTo>
                  <a:pt x="97899" y="1400"/>
                </a:lnTo>
                <a:lnTo>
                  <a:pt x="1400" y="1400"/>
                </a:lnTo>
                <a:close/>
              </a:path>
              <a:path fill="darken" w="99299" h="21600">
                <a:moveTo>
                  <a:pt x="99299" y="0"/>
                </a:moveTo>
                <a:lnTo>
                  <a:pt x="99299" y="21600"/>
                </a:lnTo>
                <a:lnTo>
                  <a:pt x="97899" y="20200"/>
                </a:lnTo>
                <a:lnTo>
                  <a:pt x="97899" y="1400"/>
                </a:lnTo>
                <a:close/>
              </a:path>
              <a:path fill="darkenLess" w="99299" h="21600">
                <a:moveTo>
                  <a:pt x="99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99" y="20200"/>
                </a:lnTo>
                <a:close/>
              </a:path>
              <a:path fill="lighten" w="99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еши задач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правляющая кнопка: настраиваемая 26">
            <a:hlinkClick r:id="rId11"/>
          </p:cNvPr>
          <p:cNvSpPr/>
          <p:nvPr/>
        </p:nvSpPr>
        <p:spPr>
          <a:xfrm>
            <a:off x="4143240" y="6500880"/>
            <a:ext cx="1785960" cy="357120"/>
          </a:xfrm>
          <a:custGeom>
            <a:avLst/>
            <a:gdLst>
              <a:gd name="textAreaLeft" fmla="*/ 23040 w 1785960"/>
              <a:gd name="textAreaRight" fmla="*/ 1762920 w 1785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07935" h="21600">
                <a:moveTo>
                  <a:pt x="0" y="0"/>
                </a:moveTo>
                <a:lnTo>
                  <a:pt x="107935" y="0"/>
                </a:lnTo>
                <a:lnTo>
                  <a:pt x="107935" y="21600"/>
                </a:lnTo>
                <a:lnTo>
                  <a:pt x="0" y="21600"/>
                </a:lnTo>
                <a:close/>
              </a:path>
              <a:path fill="lightenLess" w="107935" h="21600">
                <a:moveTo>
                  <a:pt x="0" y="0"/>
                </a:moveTo>
                <a:lnTo>
                  <a:pt x="107935" y="0"/>
                </a:lnTo>
                <a:lnTo>
                  <a:pt x="106535" y="1400"/>
                </a:lnTo>
                <a:lnTo>
                  <a:pt x="1400" y="1400"/>
                </a:lnTo>
                <a:close/>
              </a:path>
              <a:path fill="darken" w="107935" h="21600">
                <a:moveTo>
                  <a:pt x="107935" y="0"/>
                </a:moveTo>
                <a:lnTo>
                  <a:pt x="107935" y="21600"/>
                </a:lnTo>
                <a:lnTo>
                  <a:pt x="106535" y="20200"/>
                </a:lnTo>
                <a:lnTo>
                  <a:pt x="106535" y="1400"/>
                </a:lnTo>
                <a:close/>
              </a:path>
              <a:path fill="darkenLess" w="107935" h="21600">
                <a:moveTo>
                  <a:pt x="107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5" y="20200"/>
                </a:lnTo>
                <a:close/>
              </a:path>
              <a:path fill="lighten" w="107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опросы и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ижний колонтитул 16"/>
          <p:cNvSpPr/>
          <p:nvPr/>
        </p:nvSpPr>
        <p:spPr>
          <a:xfrm>
            <a:off x="6000840" y="6381720"/>
            <a:ext cx="314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5a788"/>
                </a:solidFill>
                <a:latin typeface="Corbel"/>
              </a:rPr>
              <a:t>Мой университет -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2"/>
              </a:rPr>
              <a:t>www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13"/>
              </a:rPr>
              <a:t>.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4"/>
              </a:rPr>
              <a:t>moi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15"/>
              </a:rPr>
              <a:t>-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6"/>
              </a:rPr>
              <a:t>mummi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17"/>
              </a:rPr>
              <a:t>.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8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http://class-fizika.narod.ru/tren/95.jpg"/>
          <p:cNvPicPr/>
          <p:nvPr/>
        </p:nvPicPr>
        <p:blipFill>
          <a:blip r:embed="rId1"/>
          <a:stretch/>
        </p:blipFill>
        <p:spPr>
          <a:xfrm>
            <a:off x="1143000" y="714240"/>
            <a:ext cx="2610000" cy="98136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3857760" y="6429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ошадь везет телегу. Где здесь сила трения полезна, а где вредна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2357280" y="21420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ВОПРОСЫ ДЛЯ ВС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857680" y="2147760"/>
            <a:ext cx="5929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6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900"/>
            </a:br>
            <a:br>
              <a:rPr sz="900"/>
            </a:b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://class-fizika.narod.ru/tren/98.jpg"/>
          <p:cNvPicPr/>
          <p:nvPr/>
        </p:nvPicPr>
        <p:blipFill>
          <a:blip r:embed="rId2"/>
          <a:stretch/>
        </p:blipFill>
        <p:spPr>
          <a:xfrm>
            <a:off x="1071720" y="2071800"/>
            <a:ext cx="1523880" cy="10191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9"/>
          <p:cNvSpPr/>
          <p:nvPr/>
        </p:nvSpPr>
        <p:spPr>
          <a:xfrm>
            <a:off x="2786040" y="2143080"/>
            <a:ext cx="57150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Поставьте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на стол круглый (не гранёный) стакан и толкните его так, </a:t>
            </a:r>
            <a:r>
              <a:rPr b="0" lang="ru-RU" sz="1600" spc="-1" strike="noStrike">
                <a:solidFill>
                  <a:srgbClr val="0066ff"/>
                </a:solidFill>
                <a:latin typeface="Verdana"/>
              </a:rPr>
              <a:t>чтобы он заскользил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воим дном по столу. Сдвинувшись, стакан остановится.</a:t>
            </a: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Положите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теперь тот же стакан на бок и толкните его с той же силой. Стакан, прокатившись, </a:t>
            </a:r>
            <a:r>
              <a:rPr b="0" lang="ru-RU" sz="1600" spc="-1" strike="noStrike">
                <a:solidFill>
                  <a:srgbClr val="0066ff"/>
                </a:solidFill>
                <a:latin typeface="Verdana"/>
              </a:rPr>
              <a:t>продвинется дальше.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В чём дело?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ес стакана не изменился, его стенки и дно сделаны из одного и того же стекла, стол тот же самый.</a:t>
            </a: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Управляющая кнопка: настраиваемая 10">
            <a:hlinkClick r:id="" action="ppaction://hlinkshowjump?jump=firstslide"/>
          </p:cNvPr>
          <p:cNvSpPr/>
          <p:nvPr/>
        </p:nvSpPr>
        <p:spPr>
          <a:xfrm>
            <a:off x="1071720" y="6286680"/>
            <a:ext cx="1285560" cy="285480"/>
          </a:xfrm>
          <a:custGeom>
            <a:avLst/>
            <a:gdLst>
              <a:gd name="textAreaLeft" fmla="*/ 18360 w 1285560"/>
              <a:gd name="textAreaRight" fmla="*/ 1267200 w 12855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157920" y="-968400"/>
            <a:ext cx="282780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3300"/>
                </a:solidFill>
                <a:latin typeface="Verdana"/>
              </a:rPr>
              <a:t>Что выгоднее: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качение или скольжение?</a:t>
            </a:r>
            <a:br>
              <a:rPr sz="1100"/>
            </a:br>
            <a:br>
              <a:rPr sz="11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9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http://class-fizika.narod.ru/tren/41.jpg"/>
          <p:cNvPicPr/>
          <p:nvPr/>
        </p:nvPicPr>
        <p:blipFill>
          <a:blip r:embed="rId3"/>
          <a:stretch/>
        </p:blipFill>
        <p:spPr>
          <a:xfrm>
            <a:off x="1214280" y="4429080"/>
            <a:ext cx="2286000" cy="158112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3"/>
          <p:cNvSpPr/>
          <p:nvPr/>
        </p:nvSpPr>
        <p:spPr>
          <a:xfrm>
            <a:off x="3643200" y="50720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 выгоднее: качение или скольж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ижний колонтитул 11"/>
          <p:cNvSpPr/>
          <p:nvPr/>
        </p:nvSpPr>
        <p:spPr>
          <a:xfrm>
            <a:off x="4214880" y="6305400"/>
            <a:ext cx="4395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5a788"/>
                </a:solidFill>
                <a:latin typeface="Corbel"/>
              </a:rPr>
              <a:t>Мой университет -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www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moi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8"/>
              </a:rPr>
              <a:t>mummi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.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0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Управляющая кнопка: настраиваемая 1">
            <a:hlinkClick r:id="rId1"/>
          </p:cNvPr>
          <p:cNvSpPr/>
          <p:nvPr/>
        </p:nvSpPr>
        <p:spPr>
          <a:xfrm>
            <a:off x="1000080" y="2500200"/>
            <a:ext cx="6572160" cy="500040"/>
          </a:xfrm>
          <a:custGeom>
            <a:avLst/>
            <a:gdLst>
              <a:gd name="textAreaLeft" fmla="*/ 32400 w 6572160"/>
              <a:gd name="textAreaRight" fmla="*/ 6539760 w 6572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83706" h="21600">
                <a:moveTo>
                  <a:pt x="0" y="0"/>
                </a:moveTo>
                <a:lnTo>
                  <a:pt x="283706" y="0"/>
                </a:lnTo>
                <a:lnTo>
                  <a:pt x="283706" y="21600"/>
                </a:lnTo>
                <a:lnTo>
                  <a:pt x="0" y="21600"/>
                </a:lnTo>
                <a:close/>
              </a:path>
              <a:path fill="lightenLess" w="283706" h="21600">
                <a:moveTo>
                  <a:pt x="0" y="0"/>
                </a:moveTo>
                <a:lnTo>
                  <a:pt x="283706" y="0"/>
                </a:lnTo>
                <a:lnTo>
                  <a:pt x="282306" y="1400"/>
                </a:lnTo>
                <a:lnTo>
                  <a:pt x="1400" y="1400"/>
                </a:lnTo>
                <a:close/>
              </a:path>
              <a:path fill="darken" w="283706" h="21600">
                <a:moveTo>
                  <a:pt x="283706" y="0"/>
                </a:moveTo>
                <a:lnTo>
                  <a:pt x="283706" y="21600"/>
                </a:lnTo>
                <a:lnTo>
                  <a:pt x="282306" y="20200"/>
                </a:lnTo>
                <a:lnTo>
                  <a:pt x="282306" y="1400"/>
                </a:lnTo>
                <a:close/>
              </a:path>
              <a:path fill="darkenLess" w="283706" h="21600">
                <a:moveTo>
                  <a:pt x="283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306" y="20200"/>
                </a:lnTo>
                <a:close/>
              </a:path>
              <a:path fill="lighten" w="283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ложение сил направленных по одной прямой. Равнодействующая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вторим и вспомн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Нижний колонтитул 5"/>
          <p:cNvSpPr/>
          <p:nvPr/>
        </p:nvSpPr>
        <p:spPr>
          <a:xfrm>
            <a:off x="4572000" y="630540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5a788"/>
                </a:solidFill>
                <a:latin typeface="Corbel"/>
              </a:rPr>
              <a:t>Мой университет -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www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moi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-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mummi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8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правляющая кнопка: настраиваемая 3">
            <a:hlinkClick r:id="rId9" action="ppaction://hlinksldjump"/>
          </p:cNvPr>
          <p:cNvSpPr/>
          <p:nvPr/>
        </p:nvSpPr>
        <p:spPr>
          <a:xfrm>
            <a:off x="428760" y="6429240"/>
            <a:ext cx="1500120" cy="285840"/>
          </a:xfrm>
          <a:custGeom>
            <a:avLst/>
            <a:gdLst>
              <a:gd name="textAreaLeft" fmla="*/ 18360 w 1500120"/>
              <a:gd name="textAreaRight" fmla="*/ 1481760 w 1500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13244" h="21600">
                <a:moveTo>
                  <a:pt x="0" y="0"/>
                </a:moveTo>
                <a:lnTo>
                  <a:pt x="113244" y="0"/>
                </a:lnTo>
                <a:lnTo>
                  <a:pt x="113244" y="21600"/>
                </a:lnTo>
                <a:lnTo>
                  <a:pt x="0" y="21600"/>
                </a:lnTo>
                <a:close/>
              </a:path>
              <a:path fill="lightenLess" w="113244" h="21600">
                <a:moveTo>
                  <a:pt x="0" y="0"/>
                </a:moveTo>
                <a:lnTo>
                  <a:pt x="113244" y="0"/>
                </a:lnTo>
                <a:lnTo>
                  <a:pt x="111844" y="1400"/>
                </a:lnTo>
                <a:lnTo>
                  <a:pt x="1400" y="1400"/>
                </a:lnTo>
                <a:close/>
              </a:path>
              <a:path fill="darken" w="113244" h="21600">
                <a:moveTo>
                  <a:pt x="113244" y="0"/>
                </a:moveTo>
                <a:lnTo>
                  <a:pt x="113244" y="21600"/>
                </a:lnTo>
                <a:lnTo>
                  <a:pt x="111844" y="20200"/>
                </a:lnTo>
                <a:lnTo>
                  <a:pt x="111844" y="1400"/>
                </a:lnTo>
                <a:close/>
              </a:path>
              <a:path fill="darkenLess" w="113244" h="21600">
                <a:moveTo>
                  <a:pt x="113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4" y="20200"/>
                </a:lnTo>
                <a:close/>
              </a:path>
              <a:path fill="lighten" w="113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правляющая кнопка: настраиваемая 4">
            <a:hlinkClick r:id="rId10"/>
          </p:cNvPr>
          <p:cNvSpPr/>
          <p:nvPr/>
        </p:nvSpPr>
        <p:spPr>
          <a:xfrm>
            <a:off x="1000080" y="1500120"/>
            <a:ext cx="6500880" cy="571680"/>
          </a:xfrm>
          <a:custGeom>
            <a:avLst/>
            <a:gdLst>
              <a:gd name="textAreaLeft" fmla="*/ 36720 w 6500880"/>
              <a:gd name="textAreaRight" fmla="*/ 6464160 w 65008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5484" h="21600">
                <a:moveTo>
                  <a:pt x="0" y="0"/>
                </a:moveTo>
                <a:lnTo>
                  <a:pt x="245484" y="0"/>
                </a:lnTo>
                <a:lnTo>
                  <a:pt x="245484" y="21600"/>
                </a:lnTo>
                <a:lnTo>
                  <a:pt x="0" y="21600"/>
                </a:lnTo>
                <a:close/>
              </a:path>
              <a:path fill="lightenLess" w="245484" h="21600">
                <a:moveTo>
                  <a:pt x="0" y="0"/>
                </a:moveTo>
                <a:lnTo>
                  <a:pt x="245484" y="0"/>
                </a:lnTo>
                <a:lnTo>
                  <a:pt x="244084" y="1400"/>
                </a:lnTo>
                <a:lnTo>
                  <a:pt x="1400" y="1400"/>
                </a:lnTo>
                <a:close/>
              </a:path>
              <a:path fill="darken" w="245484" h="21600">
                <a:moveTo>
                  <a:pt x="245484" y="0"/>
                </a:moveTo>
                <a:lnTo>
                  <a:pt x="245484" y="21600"/>
                </a:lnTo>
                <a:lnTo>
                  <a:pt x="244084" y="20200"/>
                </a:lnTo>
                <a:lnTo>
                  <a:pt x="244084" y="1400"/>
                </a:lnTo>
                <a:close/>
              </a:path>
              <a:path fill="darkenLess" w="245484" h="21600">
                <a:moveTo>
                  <a:pt x="245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084" y="20200"/>
                </a:lnTo>
                <a:close/>
              </a:path>
              <a:path fill="lighten" w="245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ила. Единицы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Используемые ссылк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files.school-collection.edu.ru/dlrstore/669b2b5e-e921-11dc-95ff-0800200c9a66/3_10.swf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669b5241-e921-11dc-95ff-0800200c9a66/3_16.swf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files.school-collection.edu.ru/dlrstore/669b5242-e921-11dc-95ff-0800200c9a66/3_17.swf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class-fizika.narod.ru/tren3.htm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class-fizika.narod.ru/tren11.htm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http://class-fizika.narod.ru/tren8.htm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7"/>
              </a:rPr>
              <a:t>http://class-fizika.narod.ru/tren6.htm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8"/>
              </a:rPr>
              <a:t>http://files.school-collection.edu.ru/dlrstore/669b0453-e921-11dc-95ff-0800200c9a66/index_listing.html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9"/>
              </a:rPr>
              <a:t>http://files.school-collection.edu.ru/dlrstore/0fc99d2f-c58e-48f2-97ce-21a9cadf79fb/7_101.swf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10"/>
              </a:rPr>
              <a:t>http://files.school-collection.edu.ru/dlrstore/55685a98-c992-46d3-89c9-6619b0d3a9a8/7_103.swf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11"/>
              </a:rPr>
              <a:t>http://files.school-collection.edu.ru/dlrstore/aedc7284-3436-4b6c-817c-50404bd1f0b9/7_104.swf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12"/>
              </a:rPr>
              <a:t>http://files.school-collection.edu.ru/dlrstore/2b716a7e-d097-45ac-87d3-3e4dd35b248a/7_105.swf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3720" indent="-342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Gill Sans MT"/>
                <a:hlinkClick r:id="rId13"/>
              </a:rPr>
              <a:t>http://files.school-collection.edu.ru/dlrstore/669b044e-e921-11dc-95ff-0800200c9a66/index_listing.html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Нижний колонтитул 3"/>
          <p:cNvSpPr/>
          <p:nvPr/>
        </p:nvSpPr>
        <p:spPr>
          <a:xfrm>
            <a:off x="4786200" y="630540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5a788"/>
                </a:solidFill>
                <a:latin typeface="Corbel"/>
              </a:rPr>
              <a:t>Мой университет - </a:t>
            </a:r>
            <a:r>
              <a:rPr b="0" lang="en-US" sz="1600" spc="-1" strike="noStrike" u="sng">
                <a:solidFill>
                  <a:srgbClr val="b5a788"/>
                </a:solidFill>
                <a:uFillTx/>
                <a:latin typeface="Gill Sans MT"/>
              </a:rPr>
              <a:t>www</a:t>
            </a:r>
            <a:r>
              <a:rPr b="0" lang="ru-RU" sz="1600" spc="-1" strike="noStrike" u="sng">
                <a:solidFill>
                  <a:srgbClr val="b5a788"/>
                </a:solidFill>
                <a:uFillTx/>
                <a:latin typeface="Corbel"/>
              </a:rPr>
              <a:t>.</a:t>
            </a:r>
            <a:r>
              <a:rPr b="0" lang="en-US" sz="1600" spc="-1" strike="noStrike" u="sng">
                <a:solidFill>
                  <a:srgbClr val="b5a788"/>
                </a:solidFill>
                <a:uFillTx/>
                <a:latin typeface="Gill Sans MT"/>
              </a:rPr>
              <a:t>moi</a:t>
            </a:r>
            <a:r>
              <a:rPr b="0" lang="ru-RU" sz="1600" spc="-1" strike="noStrike" u="sng">
                <a:solidFill>
                  <a:srgbClr val="b5a788"/>
                </a:solidFill>
                <a:uFillTx/>
                <a:latin typeface="Corbel"/>
              </a:rPr>
              <a:t>-</a:t>
            </a:r>
            <a:r>
              <a:rPr b="0" lang="en-US" sz="1600" spc="-1" strike="noStrike" u="sng">
                <a:solidFill>
                  <a:srgbClr val="b5a788"/>
                </a:solidFill>
                <a:uFillTx/>
                <a:latin typeface="Gill Sans MT"/>
              </a:rPr>
              <a:t>mummi</a:t>
            </a:r>
            <a:r>
              <a:rPr b="0" lang="ru-RU" sz="1600" spc="-1" strike="noStrike" u="sng">
                <a:solidFill>
                  <a:srgbClr val="b5a788"/>
                </a:solidFill>
                <a:uFillTx/>
                <a:latin typeface="Corbel"/>
              </a:rPr>
              <a:t>.</a:t>
            </a:r>
            <a:r>
              <a:rPr b="0" lang="en-US" sz="1600" spc="-1" strike="noStrike" u="sng">
                <a:solidFill>
                  <a:srgbClr val="b5a788"/>
                </a:solidFill>
                <a:uFillTx/>
                <a:latin typeface="Gill Sans MT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3:51:53Z</dcterms:created>
  <dc:creator>учитель</dc:creator>
  <dc:description/>
  <dc:language>en-US</dc:language>
  <cp:lastModifiedBy>учитель</cp:lastModifiedBy>
  <dcterms:modified xsi:type="dcterms:W3CDTF">2011-09-17T04:41:38Z</dcterms:modified>
  <cp:revision>3</cp:revision>
  <dc:subject/>
  <dc:title>Слайд 1</dc:title>
</cp:coreProperties>
</file>